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6813-1EBB-43FE-9807-7A1593610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A2F2-C9EA-4BAE-B646-4CA531CB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4F64-5693-44D7-A3CE-50A421DE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65DC-6731-4338-B3A3-3212E6D47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E8C7-E65F-4760-A130-B1EE992A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0AC5-9534-499E-9F7B-FCE66833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21B4-D163-4E69-844B-307A9387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6021-67BC-44B7-85B0-8FC5C68B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F87A-14B3-4F67-B9F4-672E98B0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60D0-1312-4EA7-AFC6-2272FFF5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A3FE-89BE-4C4F-AB96-F0833248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4E6E-3D3B-43BF-99B1-D606172E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D8C7-DFE4-4EE8-B4C7-BB65C2618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4394160" cy="4929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16360" y="2602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Mini-BHKW‘s (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lock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eiz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raft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W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er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50920" y="260280"/>
            <a:ext cx="3170160" cy="5400720"/>
            <a:chOff x="250920" y="260280"/>
            <a:chExt cx="3170160" cy="540072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250920" y="260280"/>
              <a:ext cx="237492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flipH="1" flipV="1">
              <a:off x="1547640" y="2708280"/>
              <a:ext cx="1873440" cy="295272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708360" y="1413000"/>
            <a:ext cx="5257800" cy="4903560"/>
            <a:chOff x="3708360" y="1413000"/>
            <a:chExt cx="5257800" cy="4903560"/>
          </a:xfrm>
        </p:grpSpPr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5796000" y="1413000"/>
              <a:ext cx="3170160" cy="35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5580000" y="5300640"/>
              <a:ext cx="338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omic Sans MS"/>
                </a:rPr>
                <a:t>BHKW‘s erzeu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Comic Sans MS"/>
                </a:rPr>
                <a:t>Heizwärme</a:t>
              </a:r>
              <a:r>
                <a:rPr b="0" lang="de-DE" sz="2400" spc="-1" strike="noStrike">
                  <a:solidFill>
                    <a:srgbClr val="000000"/>
                  </a:solidFill>
                  <a:latin typeface="Comic Sans MS"/>
                </a:rPr>
                <a:t> &amp; </a:t>
              </a:r>
              <a:r>
                <a:rPr b="1" lang="de-DE" sz="2400" spc="-1" strike="noStrike">
                  <a:solidFill>
                    <a:srgbClr val="00cc00"/>
                  </a:solidFill>
                  <a:latin typeface="Comic Sans MS"/>
                </a:rPr>
                <a:t>Str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3708360" y="3428640"/>
              <a:ext cx="2376360" cy="20876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09:53:15Z</dcterms:created>
  <dc:creator>BZTG</dc:creator>
  <dc:description/>
  <dc:language>en-US</dc:language>
  <cp:lastModifiedBy>BZTG</cp:lastModifiedBy>
  <dcterms:modified xsi:type="dcterms:W3CDTF">2006-10-08T10:49:04Z</dcterms:modified>
  <cp:revision>6</cp:revision>
  <dc:subject/>
  <dc:title>Folie 1</dc:title>
</cp:coreProperties>
</file>